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74E-B324-492C-9EB3-CD1273E8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DA3-113A-4009-95E9-9DC163E0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A58-92AE-4300-BC5E-2E2DC7AF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231-B685-4015-9243-EA0FF992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8D15-CA0A-47DB-B248-2C0FEE0F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4E7D-805A-477F-8775-009BF39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7F36-1AE1-45F4-82B3-ACBDA7F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A45B-0C13-4DA8-BABD-083ED91F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DF8D-98ED-45B4-865C-879F6BCF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962C-895B-4AD1-B2B7-BDFF66D7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F80-D241-478B-B991-E485F65C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D9F-FBC0-4FAA-97A3-9A00D680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8572-6EA8-4847-AFC2-D4438EC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E90C-A853-494C-9F6A-DBAB9A4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363-FBC0-4EE0-8D22-BAD5B76F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45AE-F3B0-4380-AA11-43258B0D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E15B-AB68-4F18-ACAE-88D188C1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539-D44E-4BF7-9EEE-3AA8B2B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160-D05C-408C-B09C-251EE083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09B-6308-45CF-B0C6-42048CA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97F-C07F-4930-A226-EC0DB762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34E-A1D0-4D29-ADDC-EB6170D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883-93FC-43D8-A486-A30488D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685-D108-463B-9BD2-150D0F4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DA47-4126-400E-BE44-7F95DE776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1694-CA05-4C8E-ACFF-E5AD688B0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La Rutina de Imogen 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4727880" y="33526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Laura Giargia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84582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o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 despier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mprano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 leva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seguida 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267080" y="685800"/>
            <a:ext cx="4496040" cy="4303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32432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4496040" cy="35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a n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ma una duch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 ban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r que ella no tiene tiempo. El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 p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 ropa y la muchach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 cepil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s dientes con un tubo de pasta dentif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445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81280" y="4146480"/>
            <a:ext cx="2772000" cy="271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86400" y="152280"/>
            <a:ext cx="3505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9880" y="4495320"/>
            <a:ext cx="5181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og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va la cara con una barro de jabon y se pone el maquillaj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124080" cy="419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91120" y="-457200"/>
            <a:ext cx="3152880" cy="2252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8320" y="1066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4419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og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pei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l pelo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mi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 el espejo cuando se peina 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05520" y="457200"/>
            <a:ext cx="353052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52880" y="762120"/>
            <a:ext cx="388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uchach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sien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la mesa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 desayu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a muchacha bebe un vaso de jugo de naranja y Ella come la fruta.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657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45:58Z</dcterms:created>
  <dc:creator>giargiarilau</dc:creator>
  <dc:description/>
  <dc:language>en-US</dc:language>
  <cp:lastModifiedBy>giargiarilau</cp:lastModifiedBy>
  <dcterms:modified xsi:type="dcterms:W3CDTF">2012-04-04T17:20:58Z</dcterms:modified>
  <cp:revision>3</cp:revision>
  <dc:subject/>
  <dc:title>La Rutina de Imogen  </dc:title>
</cp:coreProperties>
</file>